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41073"/>
        <c:axId val="83209319"/>
      </c:barChart>
      <c:catAx>
        <c:axId val="32641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9319"/>
        <c:crosses val="autoZero"/>
        <c:auto val="1"/>
        <c:lblAlgn val="ctr"/>
        <c:lblOffset val="100"/>
        <c:noMultiLvlLbl val="0"/>
      </c:catAx>
      <c:valAx>
        <c:axId val="83209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41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F61-791D-43AF-965B-8BBE6F7A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C4C-BF70-444A-906F-924B555F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A6B-F6EF-444A-8115-9BF0733C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6D0-7FA2-430B-BB60-472A2351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129-5EFC-431A-BC74-B45A2B46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473-6106-413B-8FC3-DB6A3B79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1D4-28F4-4B06-AD1F-783B0D8F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AC0-9FC4-4007-9876-0E3B04A1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940-6365-4E6D-AF6F-7D6021D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70D-6127-4DB5-8492-4398B22D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C67-6A21-444D-855A-D79F6E4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28A-058A-45CF-881B-12A9C4F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C9712-9EC2-4183-A63A-3DD541E2AD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