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847-CD0C-42EC-AFCA-15C57C95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315-179A-4616-9435-A88468BB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D2E-6E2E-4644-88BF-87C7492F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C3C-1044-4FC2-8052-54A1E5CA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B85-83B2-4034-937D-0637C27B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515-7B8B-402D-ADF7-603FC80E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C2A-1D73-4682-A86B-777D81CE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AD1-5B15-417A-9218-75573280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E33-7B75-4B79-A764-5E665CB6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891-DAB3-4318-B213-4E4F0A67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E0C-775C-40CC-85F7-18C93AA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C7B-33C6-4D99-A95A-F1212C75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0B8B-9B77-4550-8A10-9EA68EFF6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nfo@primeconsulting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fice 97 Annoyances ShapeGrabber U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peGrabber is a PowerPoint/VBA utility provided in the book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ffice 97 Annoya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y Woody Leonhard, Lee Hudspeth, and T.J. Lee (O’Reilly &amp; Associates, ISBN 1-56592-310-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’ve enjoyed this book, you may also be interested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cel 97 Annoya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O’Reilly &amp; Associates, ISBN 1-56592-309-X)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ord 97 Annoya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O’Reilly &amp; Associates, ISBN 1-56592-308-1), also by Woody Leonhard, Lee Hudspeth, and T.J. L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pyright 1997 by PRIME Consulting Group, Inc. All rights reserved. Questions or suggestions? We welcome them! Contact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@primeconsulting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ther source code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ntro to VBA (OfficeAnnoy)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the Excel/VBA code from this bo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My Macros (OfficeAnnoy).dot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for the Wo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VBA code from this bo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15:44:26Z</dcterms:created>
  <dc:creator>Woody Leonhard, Lee Hudspeth, and T.J. Lee</dc:creator>
  <dc:description>Copyright 1997 by PRIME Consulting Group, Inc. All rights reserved. Portions Copyright 1997 by Pinecliffe International. Questions or suggestions? We welcome them! Contact info@primeconsulting.com.</dc:description>
  <dc:language>en-US</dc:language>
  <cp:lastModifiedBy>Lee Hudspeth</cp:lastModifiedBy>
  <dcterms:modified xsi:type="dcterms:W3CDTF">1997-11-06T20:52:14Z</dcterms:modified>
  <cp:revision>315</cp:revision>
  <dc:subject/>
  <dc:title>Office 97 Annoyances PowerPoint/VBA Programming Material</dc:title>
</cp:coreProperties>
</file>