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F63-996C-4B55-86EB-230ECE04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88A-DDD1-470C-B667-7C136CEB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CAD-9B8D-48EC-9613-EC9653AC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2F0-BFE9-4BEE-8805-89B0E037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CEF-DCBA-4A49-870F-0BDD9EAD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070-1022-4F35-8ACB-BEEEBD5C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840-E7E3-45A7-9269-8E958504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CA7-3ECA-4C51-910C-72CC17B6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C9D-1E87-497A-A627-B5CE8B52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9C4-1494-41E9-A1B4-9B4C26FC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4B4-CF73-4627-A406-5C81610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64C-2E41-4FDE-A21B-9A76FE05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812D-1B1D-4ABE-9290-13E2C668F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3276720" cy="1676520"/>
          </a:xfrm>
          <a:prstGeom prst="wedgeRectCallout">
            <a:avLst>
              <a:gd name="adj1" fmla="val -46222"/>
              <a:gd name="adj2" fmla="val 6998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e, I know I was thinking somethin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3962520"/>
            <a:ext cx="3124080" cy="2438280"/>
          </a:xfrm>
          <a:prstGeom prst="cloudCallout">
            <a:avLst>
              <a:gd name="adj1" fmla="val -39023"/>
              <a:gd name="adj2" fmla="val 449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y thoughts seem to be drif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13080"/>
            <a:ext cx="2819520" cy="1194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e Hudspet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eather sure is fine in Colorado and California this time of y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856440"/>
            <a:ext cx="2819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e Hudspet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sh you were h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louds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30402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Clouds" descr=""/>
          <p:cNvPicPr/>
          <p:nvPr/>
        </p:nvPicPr>
        <p:blipFill>
          <a:blip r:embed="rId2"/>
          <a:stretch/>
        </p:blipFill>
        <p:spPr>
          <a:xfrm>
            <a:off x="5181480" y="609480"/>
            <a:ext cx="3040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4269600"/>
            <a:ext cx="32004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your ten-pack of the Annoyances Series now. Our operators are standing 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4193640"/>
            <a:ext cx="32004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your ten-pack of the Annoyances Series now. Our operators are standing 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83400"/>
            <a:ext cx="32004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your ten-pack of the Annoyances Series now. Our operators are standing 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07440"/>
            <a:ext cx="32004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your ten-pack of the Annoyances Series now. Our operators are standing 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3520" y="3886200"/>
          <a:ext cx="358128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86200"/>
                    <a:ext cx="358128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29200" y="3886200"/>
          <a:ext cx="3581280" cy="23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886200"/>
                    <a:ext cx="358128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85800" y="609480"/>
            <a:ext cx="3276720" cy="1676520"/>
          </a:xfrm>
          <a:prstGeom prst="wedgeRectCallout">
            <a:avLst>
              <a:gd name="adj1" fmla="val -46222"/>
              <a:gd name="adj2" fmla="val 745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e, I know I was thinking somethin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57200"/>
            <a:ext cx="3124080" cy="2438280"/>
          </a:xfrm>
          <a:prstGeom prst="cloudCallout">
            <a:avLst>
              <a:gd name="adj1" fmla="val -39023"/>
              <a:gd name="adj2" fmla="val 4811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y thoughts seem to be drif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3520" y="457200"/>
          <a:ext cx="358128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358128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029200" y="457200"/>
          <a:ext cx="3581280" cy="23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57200"/>
                    <a:ext cx="358128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" y="3962520"/>
            <a:ext cx="4343400" cy="198108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11480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8" h="21600">
                <a:moveTo>
                  <a:pt x="7843" y="7301"/>
                </a:moveTo>
                <a:lnTo>
                  <a:pt x="8757" y="7301"/>
                </a:lnTo>
                <a:lnTo>
                  <a:pt x="9140" y="7667"/>
                </a:lnTo>
                <a:lnTo>
                  <a:pt x="18348" y="7667"/>
                </a:lnTo>
                <a:lnTo>
                  <a:pt x="18905" y="8224"/>
                </a:lnTo>
                <a:lnTo>
                  <a:pt x="18905" y="8772"/>
                </a:lnTo>
                <a:lnTo>
                  <a:pt x="20750" y="8772"/>
                </a:lnTo>
                <a:lnTo>
                  <a:pt x="21116" y="8224"/>
                </a:lnTo>
                <a:lnTo>
                  <a:pt x="21856" y="8224"/>
                </a:lnTo>
                <a:lnTo>
                  <a:pt x="21856" y="13376"/>
                </a:lnTo>
                <a:lnTo>
                  <a:pt x="21116" y="13376"/>
                </a:lnTo>
                <a:lnTo>
                  <a:pt x="20750" y="12828"/>
                </a:lnTo>
                <a:lnTo>
                  <a:pt x="18905" y="12828"/>
                </a:lnTo>
                <a:lnTo>
                  <a:pt x="18905" y="14107"/>
                </a:lnTo>
                <a:lnTo>
                  <a:pt x="9322" y="14107"/>
                </a:lnTo>
                <a:lnTo>
                  <a:pt x="9322" y="9877"/>
                </a:lnTo>
                <a:lnTo>
                  <a:pt x="9140" y="9877"/>
                </a:lnTo>
                <a:lnTo>
                  <a:pt x="8757" y="10243"/>
                </a:lnTo>
                <a:lnTo>
                  <a:pt x="7843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4254840"/>
            <a:ext cx="2819520" cy="1194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e Hudspet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eather sure is fine in Colorado and California this time of y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4498200"/>
            <a:ext cx="2819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e Hudspet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sh you were h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685800"/>
            <a:ext cx="4343400" cy="198108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8380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8" h="21600">
                <a:moveTo>
                  <a:pt x="7843" y="7301"/>
                </a:moveTo>
                <a:lnTo>
                  <a:pt x="8757" y="7301"/>
                </a:lnTo>
                <a:lnTo>
                  <a:pt x="9140" y="7667"/>
                </a:lnTo>
                <a:lnTo>
                  <a:pt x="18348" y="7667"/>
                </a:lnTo>
                <a:lnTo>
                  <a:pt x="18905" y="8224"/>
                </a:lnTo>
                <a:lnTo>
                  <a:pt x="18905" y="8772"/>
                </a:lnTo>
                <a:lnTo>
                  <a:pt x="20750" y="8772"/>
                </a:lnTo>
                <a:lnTo>
                  <a:pt x="21116" y="8224"/>
                </a:lnTo>
                <a:lnTo>
                  <a:pt x="21856" y="8224"/>
                </a:lnTo>
                <a:lnTo>
                  <a:pt x="21856" y="13376"/>
                </a:lnTo>
                <a:lnTo>
                  <a:pt x="21116" y="13376"/>
                </a:lnTo>
                <a:lnTo>
                  <a:pt x="20750" y="12828"/>
                </a:lnTo>
                <a:lnTo>
                  <a:pt x="18905" y="12828"/>
                </a:lnTo>
                <a:lnTo>
                  <a:pt x="18905" y="14107"/>
                </a:lnTo>
                <a:lnTo>
                  <a:pt x="9322" y="14107"/>
                </a:lnTo>
                <a:lnTo>
                  <a:pt x="9322" y="9877"/>
                </a:lnTo>
                <a:lnTo>
                  <a:pt x="9140" y="9877"/>
                </a:lnTo>
                <a:lnTo>
                  <a:pt x="8757" y="10243"/>
                </a:lnTo>
                <a:lnTo>
                  <a:pt x="7843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380880"/>
          <a:ext cx="6107040" cy="40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10704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5720" y="4019400"/>
            <a:ext cx="2344680" cy="2124360"/>
          </a:xfrm>
          <a:custGeom>
            <a:avLst/>
            <a:gdLst/>
            <a:ahLst/>
            <a:rect l="l" t="t" r="r" b="b"/>
            <a:pathLst>
              <a:path w="1477" h="1338">
                <a:moveTo>
                  <a:pt x="793" y="132"/>
                </a:moveTo>
                <a:cubicBezTo>
                  <a:pt x="541" y="478"/>
                  <a:pt x="327" y="851"/>
                  <a:pt x="49" y="1176"/>
                </a:cubicBezTo>
                <a:cubicBezTo>
                  <a:pt x="41" y="1200"/>
                  <a:pt x="0" y="1254"/>
                  <a:pt x="25" y="1248"/>
                </a:cubicBezTo>
                <a:cubicBezTo>
                  <a:pt x="80" y="1235"/>
                  <a:pt x="530" y="966"/>
                  <a:pt x="541" y="960"/>
                </a:cubicBezTo>
                <a:cubicBezTo>
                  <a:pt x="842" y="805"/>
                  <a:pt x="1200" y="688"/>
                  <a:pt x="1477" y="480"/>
                </a:cubicBezTo>
                <a:cubicBezTo>
                  <a:pt x="1030" y="450"/>
                  <a:pt x="592" y="530"/>
                  <a:pt x="145" y="576"/>
                </a:cubicBezTo>
                <a:cubicBezTo>
                  <a:pt x="315" y="848"/>
                  <a:pt x="551" y="1119"/>
                  <a:pt x="865" y="1224"/>
                </a:cubicBezTo>
                <a:cubicBezTo>
                  <a:pt x="929" y="1310"/>
                  <a:pt x="932" y="1338"/>
                  <a:pt x="937" y="1080"/>
                </a:cubicBezTo>
                <a:cubicBezTo>
                  <a:pt x="944" y="720"/>
                  <a:pt x="929" y="360"/>
                  <a:pt x="925" y="0"/>
                </a:cubicBezTo>
                <a:cubicBezTo>
                  <a:pt x="913" y="16"/>
                  <a:pt x="903" y="34"/>
                  <a:pt x="889" y="48"/>
                </a:cubicBezTo>
                <a:cubicBezTo>
                  <a:pt x="879" y="58"/>
                  <a:pt x="863" y="62"/>
                  <a:pt x="853" y="72"/>
                </a:cubicBezTo>
                <a:cubicBezTo>
                  <a:pt x="773" y="152"/>
                  <a:pt x="889" y="68"/>
                  <a:pt x="793" y="132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4114800"/>
            <a:ext cx="2344680" cy="2124000"/>
          </a:xfrm>
          <a:custGeom>
            <a:avLst/>
            <a:gdLst/>
            <a:ahLst/>
            <a:rect l="l" t="t" r="r" b="b"/>
            <a:pathLst>
              <a:path w="1477" h="1338">
                <a:moveTo>
                  <a:pt x="793" y="132"/>
                </a:moveTo>
                <a:cubicBezTo>
                  <a:pt x="541" y="478"/>
                  <a:pt x="327" y="851"/>
                  <a:pt x="49" y="1176"/>
                </a:cubicBezTo>
                <a:cubicBezTo>
                  <a:pt x="41" y="1200"/>
                  <a:pt x="0" y="1254"/>
                  <a:pt x="25" y="1248"/>
                </a:cubicBezTo>
                <a:cubicBezTo>
                  <a:pt x="80" y="1235"/>
                  <a:pt x="530" y="966"/>
                  <a:pt x="541" y="960"/>
                </a:cubicBezTo>
                <a:cubicBezTo>
                  <a:pt x="842" y="805"/>
                  <a:pt x="1200" y="688"/>
                  <a:pt x="1477" y="480"/>
                </a:cubicBezTo>
                <a:cubicBezTo>
                  <a:pt x="1030" y="450"/>
                  <a:pt x="592" y="530"/>
                  <a:pt x="145" y="576"/>
                </a:cubicBezTo>
                <a:cubicBezTo>
                  <a:pt x="315" y="848"/>
                  <a:pt x="551" y="1119"/>
                  <a:pt x="865" y="1224"/>
                </a:cubicBezTo>
                <a:cubicBezTo>
                  <a:pt x="929" y="1310"/>
                  <a:pt x="932" y="1338"/>
                  <a:pt x="937" y="1080"/>
                </a:cubicBezTo>
                <a:cubicBezTo>
                  <a:pt x="944" y="720"/>
                  <a:pt x="929" y="360"/>
                  <a:pt x="925" y="0"/>
                </a:cubicBezTo>
                <a:cubicBezTo>
                  <a:pt x="913" y="16"/>
                  <a:pt x="903" y="34"/>
                  <a:pt x="889" y="48"/>
                </a:cubicBezTo>
                <a:cubicBezTo>
                  <a:pt x="879" y="58"/>
                  <a:pt x="863" y="62"/>
                  <a:pt x="853" y="72"/>
                </a:cubicBezTo>
                <a:cubicBezTo>
                  <a:pt x="773" y="152"/>
                  <a:pt x="889" y="68"/>
                  <a:pt x="793" y="132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55720" y="438120"/>
            <a:ext cx="2344680" cy="2124000"/>
          </a:xfrm>
          <a:custGeom>
            <a:avLst/>
            <a:gdLst/>
            <a:ahLst/>
            <a:rect l="l" t="t" r="r" b="b"/>
            <a:pathLst>
              <a:path w="1477" h="1338">
                <a:moveTo>
                  <a:pt x="793" y="132"/>
                </a:moveTo>
                <a:cubicBezTo>
                  <a:pt x="541" y="478"/>
                  <a:pt x="327" y="851"/>
                  <a:pt x="49" y="1176"/>
                </a:cubicBezTo>
                <a:cubicBezTo>
                  <a:pt x="41" y="1200"/>
                  <a:pt x="0" y="1254"/>
                  <a:pt x="25" y="1248"/>
                </a:cubicBezTo>
                <a:cubicBezTo>
                  <a:pt x="80" y="1235"/>
                  <a:pt x="530" y="966"/>
                  <a:pt x="541" y="960"/>
                </a:cubicBezTo>
                <a:cubicBezTo>
                  <a:pt x="842" y="805"/>
                  <a:pt x="1200" y="688"/>
                  <a:pt x="1477" y="480"/>
                </a:cubicBezTo>
                <a:cubicBezTo>
                  <a:pt x="1030" y="450"/>
                  <a:pt x="592" y="530"/>
                  <a:pt x="145" y="576"/>
                </a:cubicBezTo>
                <a:cubicBezTo>
                  <a:pt x="315" y="848"/>
                  <a:pt x="551" y="1119"/>
                  <a:pt x="865" y="1224"/>
                </a:cubicBezTo>
                <a:cubicBezTo>
                  <a:pt x="929" y="1310"/>
                  <a:pt x="932" y="1338"/>
                  <a:pt x="937" y="1080"/>
                </a:cubicBezTo>
                <a:cubicBezTo>
                  <a:pt x="944" y="720"/>
                  <a:pt x="929" y="360"/>
                  <a:pt x="925" y="0"/>
                </a:cubicBezTo>
                <a:cubicBezTo>
                  <a:pt x="913" y="16"/>
                  <a:pt x="903" y="34"/>
                  <a:pt x="889" y="48"/>
                </a:cubicBezTo>
                <a:cubicBezTo>
                  <a:pt x="879" y="58"/>
                  <a:pt x="863" y="62"/>
                  <a:pt x="853" y="72"/>
                </a:cubicBezTo>
                <a:cubicBezTo>
                  <a:pt x="773" y="152"/>
                  <a:pt x="889" y="68"/>
                  <a:pt x="793" y="132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533520"/>
            <a:ext cx="2344680" cy="2124000"/>
          </a:xfrm>
          <a:custGeom>
            <a:avLst/>
            <a:gdLst/>
            <a:ahLst/>
            <a:rect l="l" t="t" r="r" b="b"/>
            <a:pathLst>
              <a:path w="1477" h="1338">
                <a:moveTo>
                  <a:pt x="793" y="132"/>
                </a:moveTo>
                <a:cubicBezTo>
                  <a:pt x="541" y="478"/>
                  <a:pt x="327" y="851"/>
                  <a:pt x="49" y="1176"/>
                </a:cubicBezTo>
                <a:cubicBezTo>
                  <a:pt x="41" y="1200"/>
                  <a:pt x="0" y="1254"/>
                  <a:pt x="25" y="1248"/>
                </a:cubicBezTo>
                <a:cubicBezTo>
                  <a:pt x="80" y="1235"/>
                  <a:pt x="530" y="966"/>
                  <a:pt x="541" y="960"/>
                </a:cubicBezTo>
                <a:cubicBezTo>
                  <a:pt x="842" y="805"/>
                  <a:pt x="1200" y="688"/>
                  <a:pt x="1477" y="480"/>
                </a:cubicBezTo>
                <a:cubicBezTo>
                  <a:pt x="1030" y="450"/>
                  <a:pt x="592" y="530"/>
                  <a:pt x="145" y="576"/>
                </a:cubicBezTo>
                <a:cubicBezTo>
                  <a:pt x="315" y="848"/>
                  <a:pt x="551" y="1119"/>
                  <a:pt x="865" y="1224"/>
                </a:cubicBezTo>
                <a:cubicBezTo>
                  <a:pt x="929" y="1310"/>
                  <a:pt x="932" y="1338"/>
                  <a:pt x="937" y="1080"/>
                </a:cubicBezTo>
                <a:cubicBezTo>
                  <a:pt x="944" y="720"/>
                  <a:pt x="929" y="360"/>
                  <a:pt x="925" y="0"/>
                </a:cubicBezTo>
                <a:cubicBezTo>
                  <a:pt x="913" y="16"/>
                  <a:pt x="903" y="34"/>
                  <a:pt x="889" y="48"/>
                </a:cubicBezTo>
                <a:cubicBezTo>
                  <a:pt x="879" y="58"/>
                  <a:pt x="863" y="62"/>
                  <a:pt x="853" y="72"/>
                </a:cubicBezTo>
                <a:cubicBezTo>
                  <a:pt x="773" y="152"/>
                  <a:pt x="889" y="68"/>
                  <a:pt x="793" y="132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114800"/>
            <a:ext cx="10670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403848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487840" cy="99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4114800"/>
            <a:ext cx="10670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403848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louds" descr=""/>
          <p:cNvPicPr/>
          <p:nvPr/>
        </p:nvPicPr>
        <p:blipFill>
          <a:blip r:embed="rId1"/>
          <a:stretch/>
        </p:blipFill>
        <p:spPr>
          <a:xfrm>
            <a:off x="3063960" y="2286000"/>
            <a:ext cx="6080040" cy="4572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5487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8:30:58Z</dcterms:created>
  <dc:creator>Woody Leonhard, Lee Hudspeth, and T.J. Lee</dc:creator>
  <dc:description>Copyright 1997 by PRIME Consulting Group, Inc. All rights reserved. Portions Copyright 1997 by Pinecliffe International. Questions or suggestions? We welcome them! Contact info@primeconsulting.com.</dc:description>
  <dc:language>en-US</dc:language>
  <cp:lastModifiedBy>Lee Hudspeth</cp:lastModifiedBy>
  <dcterms:modified xsi:type="dcterms:W3CDTF">1997-11-06T20:54:48Z</dcterms:modified>
  <cp:revision>18</cp:revision>
  <dc:subject>Accompanies ShapeGrabber.ppt</dc:subject>
  <dc:title>Office 97 Annoyances PowerPoint/VBA Programming Material</dc:title>
</cp:coreProperties>
</file>