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06903"/>
        <c:axId val="687651"/>
      </c:barChart>
      <c:catAx>
        <c:axId val="29706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51"/>
        <c:crosses val="autoZero"/>
        <c:auto val="1"/>
        <c:lblAlgn val="ctr"/>
        <c:lblOffset val="100"/>
        <c:noMultiLvlLbl val="0"/>
      </c:catAx>
      <c:valAx>
        <c:axId val="687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06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77D-929F-4E1A-B5AB-12667056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9A1-8D86-4E92-8C2B-6645A9A4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5E6-5841-46E0-89A1-64B84163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2FD-BCD3-4014-834E-E9B04057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C79-00C2-44C9-92C2-7FE5AA97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0E5-F606-4B02-B1BF-B8B7C2D3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B3A-F052-40FA-87EB-92785D54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EE8-D2C1-4FDA-BCC4-66A4C8BB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6BC-017C-489D-86AE-15FB9A65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BFC-EF83-4911-A909-0ECCC120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D3A-E032-4854-A579-AA7D3F14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BD2-2940-42AC-B089-3A72BA52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67FB9-623B-45CC-9316-3A68806BF7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