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31806"/>
        <c:axId val="25557023"/>
      </c:barChart>
      <c:catAx>
        <c:axId val="91731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57023"/>
        <c:crosses val="autoZero"/>
        <c:auto val="1"/>
        <c:lblAlgn val="ctr"/>
        <c:lblOffset val="100"/>
        <c:noMultiLvlLbl val="0"/>
      </c:catAx>
      <c:valAx>
        <c:axId val="25557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31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67CF-22F7-4EA7-94F6-3D0D3896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752C-9934-4A68-92FE-0F30C9BE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9F4-E7CB-4BDF-A37D-11297AC7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3F7-1E78-415D-8096-06A0E978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99B-F87E-449F-ACEC-1E3C2909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7D28-DB96-4D93-942A-B37EEF89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F35-0A80-4C70-8827-93A51109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2363-6FC7-43EF-9460-3C1A41D1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D15-5AF4-4791-B195-3B0BAC3B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766B-E8B4-4213-912E-0F0FC6F8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C9B5-DBFC-47EF-B77D-E0C3EEA7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A8A-2735-49D9-9AE7-B8668E83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A4FC9-D1F2-456F-82F3-D67220693B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