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67319"/>
        <c:axId val="68963784"/>
      </c:barChart>
      <c:catAx>
        <c:axId val="62767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63784"/>
        <c:crosses val="autoZero"/>
        <c:auto val="1"/>
        <c:lblAlgn val="ctr"/>
        <c:lblOffset val="100"/>
        <c:noMultiLvlLbl val="0"/>
      </c:catAx>
      <c:valAx>
        <c:axId val="68963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67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E0C-D31A-4A91-9642-4D994C43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315-08BC-49D5-88A4-0498748C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963-A7A1-45ED-85C0-4E79B685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FD3-6FC2-4E6D-81ED-F4FA0C39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3AE-5390-42D7-80B2-6C71508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6D6-501B-473C-978E-A9EE3B95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7FD-1492-42FF-AB96-A4FF1D3E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342-E980-4987-A001-FBC19223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212-A51F-4012-83D0-14A4FA64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F09-1586-4010-B2B6-B31DB9D4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717-66B8-4A21-A3A4-F57614FF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CF1-43E0-46C8-817E-59B22A05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515A6-35C0-4DE9-A8EA-07157BD802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