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77092"/>
        <c:axId val="54368192"/>
      </c:barChart>
      <c:catAx>
        <c:axId val="24677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8192"/>
        <c:crosses val="autoZero"/>
        <c:auto val="1"/>
        <c:lblAlgn val="ctr"/>
        <c:lblOffset val="100"/>
        <c:noMultiLvlLbl val="0"/>
      </c:catAx>
      <c:valAx>
        <c:axId val="54368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77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788-D5FE-410B-9A3B-74042685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8D2-8B2E-4AC9-91EC-E74AEF8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07F-0E0D-4E9B-A12E-519BF808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BE1-C63C-4258-A972-189D94BE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CBC-00AF-4806-8A38-F3266BD2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BF1-7786-4597-8F70-E1042CE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B4D-CBA5-474C-968C-7F60968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6B8-214C-4D59-8339-A9E7EE8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1D7-7903-44EC-BF65-FF1E4B88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7CA-8504-4A08-9E69-4696C29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EC1-8CE4-41B9-80F2-36C2A27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2C-82BE-4196-AE10-191E55E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E0CE2-F107-4520-9864-A1F06A66C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