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8982"/>
        <c:axId val="99566694"/>
      </c:barChart>
      <c:catAx>
        <c:axId val="5538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66694"/>
        <c:crosses val="autoZero"/>
        <c:auto val="1"/>
        <c:lblAlgn val="ctr"/>
        <c:lblOffset val="100"/>
        <c:noMultiLvlLbl val="0"/>
      </c:catAx>
      <c:valAx>
        <c:axId val="99566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8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7A0-AF29-4981-BA30-D30CD125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E15-0874-4807-998D-DD1874F6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F69-DD3B-481F-8B38-630DB568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C2E-B661-4356-83D0-4DBC663C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B42-D082-4613-BDF5-FAEE5020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38B-AFDD-41D3-815D-63CF18FF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250-E57F-44D3-8F47-8D2B98DA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8BD-8B09-4890-AA8A-133A962D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0A8-A714-47D6-A483-FBC27F8B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8E2-C561-4983-952A-8794A93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0F0-35BF-40E8-9581-295A51A3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CC2-8C18-4C93-B7EC-9F637C50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C108E-9D06-42CB-90BB-2F09DFEAAB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