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15353"/>
        <c:axId val="2932279"/>
      </c:barChart>
      <c:catAx>
        <c:axId val="33915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2279"/>
        <c:crosses val="autoZero"/>
        <c:auto val="1"/>
        <c:lblAlgn val="ctr"/>
        <c:lblOffset val="100"/>
        <c:noMultiLvlLbl val="0"/>
      </c:catAx>
      <c:valAx>
        <c:axId val="2932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15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57F-1CD2-45EC-A5AE-002DD0E2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125-09E4-4E8F-BD83-CA71CCA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6C2-09F8-4DE1-80B7-B7C4B6D7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267-3F4B-4E1B-B9C1-A3FDF31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C42-0630-4B06-AAAC-4E74A347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FAF-BA16-4E51-A026-B8A2668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E77-30D1-4B80-ADA7-E5EA6050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538-9C86-4DA1-A128-5633CB8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B49-40AD-4313-862C-4BDFF30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022-328A-4A0C-8A7A-DF41BE0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E47-1CA5-4B68-AFAF-C2E2FC1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898-B380-44C3-A986-277E652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D85B8-1D48-4C53-BCB3-0AD4B8063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