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02862"/>
        <c:axId val="22412104"/>
      </c:barChart>
      <c:catAx>
        <c:axId val="27102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2104"/>
        <c:crosses val="autoZero"/>
        <c:auto val="1"/>
        <c:lblAlgn val="ctr"/>
        <c:lblOffset val="100"/>
        <c:noMultiLvlLbl val="0"/>
      </c:catAx>
      <c:valAx>
        <c:axId val="22412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02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009-B9FC-49F5-9EC4-C68249E7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941-2527-4909-A13B-C686D9D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B0E-F678-4191-8F3F-85069EA5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BC2-82B1-4244-8727-3E26AC9B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0D1-AFC4-490E-ACCE-3120339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848-15D5-4F5B-B680-3ECF70B8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1EE-8A26-45DB-8F4E-1B7FCC8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999-CC1E-431D-8717-37FE0C8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C08-1957-4EB3-AB7F-692615F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458-9B32-4D08-9401-3DDC22B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8CF-9892-48EA-8453-9F78F55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E37-A45A-4CE0-A3E6-1F795EE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DB791-9558-465D-AFE9-13D423420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