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49358"/>
        <c:axId val="98496200"/>
      </c:barChart>
      <c:catAx>
        <c:axId val="29149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6200"/>
        <c:crosses val="autoZero"/>
        <c:auto val="1"/>
        <c:lblAlgn val="ctr"/>
        <c:lblOffset val="100"/>
        <c:noMultiLvlLbl val="0"/>
      </c:catAx>
      <c:valAx>
        <c:axId val="98496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9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763-FD10-4946-B786-A6F81639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FBC-A09E-42F2-A5BA-3BED458E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92B-7F46-46DE-A094-92F3DCF5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3F7-1140-4454-8061-3DCC4547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76A-E84A-4200-B206-150F01E0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92E-D043-4F41-BC77-F0E5FDBB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975-9695-44D9-9FB8-5E9E8117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784-212F-49FA-A9C1-DCC64E03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BFF-2A62-4738-996B-6699B1D4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E17-69D8-4154-88E5-FFA99A2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589-FD83-4729-81E3-7DEADF1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F27-8C3D-4A58-B92C-79ACEFD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F4305-B693-4A5A-8C50-F7768F044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