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3994"/>
        <c:axId val="90674225"/>
      </c:barChart>
      <c:catAx>
        <c:axId val="2723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74225"/>
        <c:crosses val="autoZero"/>
        <c:auto val="1"/>
        <c:lblAlgn val="ctr"/>
        <c:lblOffset val="100"/>
        <c:noMultiLvlLbl val="0"/>
      </c:catAx>
      <c:valAx>
        <c:axId val="90674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3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49F-EE0C-45EF-84CF-6F48C84C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142-0A21-482B-9FBA-03B971D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455-7F9A-4A52-B091-7445C609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03B-F070-46AE-A37C-ABFB493A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4EA-1630-4875-888D-159FD205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8E6-0C1D-406C-B600-5CA1F00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970-A194-492A-BAA6-8B6B346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1A2-CA56-4461-A0CA-D89EFBD9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D39-70E6-4BD2-846E-C13FEDA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D54-B4F6-4302-A539-D8114C7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2E9-0359-4B20-A258-78B7FAD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3D4-AF62-4F45-85C4-362DC34F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E0EE6-00AF-47DF-9DA6-7AB9290F74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